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A76-42B7-4A28-9022-DBBD2C64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6E8-0880-4728-96EE-3BDBDF05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5BB-8946-4AC2-A080-2A0BB021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6B6-8023-40F1-902A-F8910D8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AD7-6CC4-464F-8018-FE90B90B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F7AF-E0C9-4995-AF08-B139BA91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CF20-99CD-442B-8128-38D4B827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52A-7FFF-4B19-A49C-567A01FA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83DC-D2F1-416E-A07E-AD7129A1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AB08-AE1C-4EB9-85C6-EFC5FAF8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552-8BA2-473E-94DA-52390790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5CB-1A77-4D88-8176-A377E8E5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0221-3864-4101-A973-35BDE62D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8C91-27DF-494C-8BF6-426D0AD2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939-A99F-40C4-BC68-C5C50398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E36A-6A5F-4BDB-944D-CA710A23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1A6-A06F-4D48-9B0F-29D59F51C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1B88-BD46-45D3-9447-56CB1926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909C4-2D31-464A-83B4-C27A56C2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9E6A-3856-495E-A5A5-A815D59B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23BC-50EC-4199-8502-69923159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8571-65AB-4C21-B0EE-4AEDC2F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0F9C-F7F0-479E-83DB-3735F53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CBC5-EFD4-47C7-A3A4-A36ADD63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26E63-12D3-408F-93CA-732AE1B4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A654-2D65-4757-AFDE-1A0B62F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FD70-0274-44FE-B63A-619A95F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4331-BDF7-4381-B39B-19B9968A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82D8C-11E7-4D7E-8384-567F57A2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9DC2-A97E-4A8F-A197-7EB6CA60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A079-75C2-4E58-AA66-C2DAA464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9CDE-249B-41CE-B9A4-E4249B9D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EE53-B975-4CD7-B8D4-0A63FA9E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192-C9A9-4DB5-80F2-E8F71399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4609-5D13-431A-82B3-08A8BE9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1CB2-CB94-4DDD-BA08-93DDC5B8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5AE5-089A-48E4-A4E1-A0EB5242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6D958-AC07-4086-8517-0376EDC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BCB27-FE77-49A2-B21E-E72593B8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77A79-4549-4650-BE9A-844841D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4A2B-BF3A-4F2C-ADAA-635A8EBB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C475E-3F7D-4BCF-8E43-031B30FD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3E19-3A0A-49B5-8D6C-65D6F198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8E2-148C-4576-AACB-38AFFAEA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15D-6AB4-4028-A527-9815EA6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737-62DA-4F72-91B5-9D1CE69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DEA-B0FF-4D79-B595-F220B288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026-27A3-4AA1-B25D-8886BBF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BF0E-8DFB-4C07-8F11-F016D6FF64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79AD-2BCE-46BA-9452-8586264FE8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8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1E6E-44FB-4B16-9AA3-8975D7E8A7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3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DBA4-FF4F-45CA-A462-B3D6A89002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do we use the polyboar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3924000"/>
            <a:ext cx="81532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y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awna Vanderpool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Dan Snyd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Imprint MT Shadow"/>
              </a:rPr>
              <a:t>What do I do when this shows up in my room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rn on laptop, which is connected to the boa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remote, turn projector on. (May take a while to start up first thing in the morn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52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vie"/>
              </a:rPr>
              <a:t>Now I need to Calibrate my 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 left hand side of your board, hit projec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screen appears and you will touch the 4 corners of the screen.  (Once you get the hand of this, you may want to make it 16 points for a more accurate board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w you are ready to use your polyvision boar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Forte"/>
              </a:rPr>
              <a:t>What can I use my polyvision board fo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larged text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ma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gle Ear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ve review g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werpoint less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3924360"/>
            <a:ext cx="69343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Kristen ITC"/>
              </a:rPr>
              <a:t>What are some of the features of the Polyvision boar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Different colored markers (for writing, underlining or highlighting.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Can erase mistak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Can use a black screen to cover material for later us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Questions??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The easiest way to learn how to work with your Polyvision board is to just tinker with it in your spare tim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2:39:08Z</dcterms:created>
  <dc:creator>dansnyder</dc:creator>
  <dc:description/>
  <dc:language>en-US</dc:language>
  <cp:lastModifiedBy>dansnyder</cp:lastModifiedBy>
  <dcterms:modified xsi:type="dcterms:W3CDTF">2009-08-26T03:15:50Z</dcterms:modified>
  <cp:revision>2</cp:revision>
  <dc:subject/>
  <dc:title>How do we use the polyboard?</dc:title>
</cp:coreProperties>
</file>